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21E-4851-42EF-8700-B1F1E2EF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999-A07E-43A1-BA9F-3D8CB633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DFF6A8-6A6F-47D0-9ACB-5DE7D22C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EF05A-9C8D-435D-A208-A327629F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B5545E-436A-4BCF-951E-FA906B92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9D386-2EEE-428E-A720-EBA457C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F6901B-45FD-4C6F-879D-FC6EF0A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B8BC8-AB9C-4851-9481-6044C313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32870-7CB7-4228-899B-0C962B69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3796E-0AAC-4075-9941-0B69145C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78F18-2887-4672-A14E-0A7B4AB8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405-029C-41EB-AE39-F7ECC193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A39-8369-497E-B811-A48EB102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50D2C-C208-47AF-84A3-B863F549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F8CBF-2478-4B2D-8911-5DEA24BE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3397E-C3DE-478E-863F-ADA7A1A3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73D18-C199-4FE9-A899-DBD1B490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302D2-5A8C-4454-8624-3B12F0FD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DBB1-CEF0-4536-B23D-9196C369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881F1-CAD7-42B0-B83F-C129656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D29-F4CA-4D3C-8BDA-A213AAD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EFA62-9343-49B6-B6F5-59900C4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D633A-A287-4DC4-88F5-51AE1D6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E080-B59D-44DE-942C-9EB10AA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94E9A-72AE-4A6B-8FB3-74537960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6505-A995-4567-823B-07C1F180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CD67-0D6F-492C-B4CF-A1818101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38A2-4B5A-4B01-B833-B6B70083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BDCE-2E87-47C1-8429-4A57110E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9D932-B8D1-45D7-9C29-8F2BC06F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C845-5D35-4B59-B6EE-01A16FC7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A71-6D95-4DFF-BE10-01F3B33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CBD5-BA56-4C28-A45E-A89E9CA8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C8FB-3640-4BD8-A1B4-D1F47FD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AAEB-591F-43A1-A507-FEBFF49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CDD0-A3DE-4112-9350-CAD0BF2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D2F9-C423-40ED-88C9-0BA7E18D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C50F-3178-478B-92B6-DD3CF098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C1CC-0B0B-4FF5-B47B-4E55AFD8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B2EC4-BEB5-45FF-9E12-668C496F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47BA1-7168-4C80-9A08-4BBC8A29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B88EF-9479-4CF8-966C-DE6C8292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BAC-BD9C-4DFE-A1E9-98B7BDB8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44AAF-F641-4736-8A36-115B99E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38286-4A06-40B6-8304-293A718D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B0137-C37C-4EE5-8AE6-950379D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4A4C7-4335-40E6-B4E5-5F10F44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E07FF-86C9-4415-BC3D-6E14706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BF60D-387C-4C9B-9ED7-FA57864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D0F16-996C-41B7-A186-7C8096DF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BE27F-3131-40B6-9E4B-AD5B2BD6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4CB7B-060F-433F-B29E-3D569A4E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ED29-7688-4A2A-8341-49242BF2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90E-7C66-4459-9003-CD16E6C7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86B69-2933-49B9-8D3C-688FC2F9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DFA4C-849F-4859-B2A9-74A545BC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1165-30CF-4DEE-BC2B-28442724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6CD51-EA30-4B20-A68D-E4F0676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3B490-276F-417E-915A-758B366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5102-5227-4DDB-9D3F-EA7A317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8D83-D472-43ED-AFE4-3430CE5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968B-D06F-490E-9DEB-405877E6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F784-B845-468A-B186-8175CBB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95EA8-3BE3-4D75-B7DF-77CFBE88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ED9-9C76-49D0-9FA0-F4C9C46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A3BD-5E7A-418A-8528-F326BF1B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D701-AB72-4005-A94B-5A897536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5F4C-06C6-4DDE-BC30-AD3B93E9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5213E-41E6-4D67-AF7B-02E2527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5576-249A-4131-A993-BAD7E4C0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1E43-441E-472A-9663-758A3AA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B59D-93B8-4E8C-9FB1-4A05D3C4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17436-9908-4495-BFDF-5B83C8A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962B-080F-4613-9FF2-3479979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4D56D-C401-450D-890C-1A3D408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6D2-7F10-4483-9A51-08F5A745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23DA8-4491-44DB-9389-C1812F3A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B455-1B6D-43D0-8AFF-BF337E96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43C0-20A7-437B-B31F-932A6EA1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CE9D-F06E-410A-A986-2CD6B4BA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7784-7A32-4975-BEC3-29FB8386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7136-D0B1-4C20-8188-910895E5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E95D-AB71-4C5F-8D30-FF1FA087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AA02D-23FD-4109-A1CB-2A37D1DC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AE1A-1C43-4F05-90B6-B395E30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BB9ED-1D7C-4DEF-9758-73EDD90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150-D236-4A83-9D74-CD53B3C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168F-2D0A-4DDA-B18C-20906B8A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C2240-3FCF-4A00-BFD2-DF01CD4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600D3-EC6F-4DD4-9A31-07EC455D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DE689-74DE-42E5-942F-6CCA7472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21338-2885-4E5E-9990-FA90A6FD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E3EE0-1275-4243-8D6F-EBBE338E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0D5FC0-DF28-4959-981A-0172CFA6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13F89B-D5A9-44A9-8E00-8E146D9C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88034-A6FE-4221-BCE3-D194E43E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C666F-ECB1-4E74-B462-24F48D88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D8F-BF77-4934-BAAF-EE540F21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489F5-277B-4DEE-9580-3505FF2C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86FED-692C-4EF7-BA85-AEC1E10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EDCCB-3BBF-46F9-8EE9-061D3A6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C2D7F-538B-4ED2-B445-4E8E3EC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8287E-D4C6-4130-BB96-190D4777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D665B2-D305-4D60-AAFE-6B021EC4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D1E041-C54D-4992-A830-AFEC4457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E2430-E742-4AC8-A13B-1041CFE3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1452F-3181-4D20-8755-6C00BCB7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15EF3-D482-4E5C-97C5-ED5175D1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2489-8BC3-41CC-9A3A-C4FE0896B28E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DC2-5451-4C30-AFB7-EA34BD482F0A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C44-FB40-4174-AA03-41DB8248A4E3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5E0E-920D-43E7-BF3A-11179DDBD34C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24F-0F11-49B0-848E-8AC44580DF8B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C814-3DA1-4317-92A0-3848B6B7AC67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3F3-B597-4565-A762-5BF925D91A4F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1279-2E43-4560-ACA8-0F0A1D82314F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E751-EC97-4D88-BA44-BC82F4676D17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mailto:donricardo2006@hotmail.com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381880" cy="2219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85880" y="35002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0f2d8"/>
                </a:solidFill>
                <a:latin typeface="Rockwell"/>
              </a:rPr>
              <a:t>Dr. Luis Ricardo Villalobos Zamora</a:t>
            </a:r>
            <a:br>
              <a:rPr sz="3200"/>
            </a:br>
            <a:r>
              <a:rPr b="0" lang="es-ES" sz="32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donricardo2006@hotmail.com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Tel (+506 )8837 5773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907920" y="506520"/>
            <a:ext cx="8444160" cy="925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portar conocimiento para  el diseño de la programación ,  la gestión  y evaluación del diseño curricular  para responder a los requerimientos de una carrera determinad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28" name="Picture 2" descr="C:\Users\Luis\Documents\CURRICULO HONDURAS\imagen 3.jpg"/>
          <p:cNvPicPr/>
          <p:nvPr/>
        </p:nvPicPr>
        <p:blipFill>
          <a:blip r:embed="rId1"/>
          <a:stretch/>
        </p:blipFill>
        <p:spPr>
          <a:xfrm>
            <a:off x="428760" y="42876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3 Rectángulo"/>
          <p:cNvSpPr/>
          <p:nvPr/>
        </p:nvSpPr>
        <p:spPr>
          <a:xfrm>
            <a:off x="5286240" y="2143080"/>
            <a:ext cx="2857680" cy="9288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1.USANDO  SIEMPRE LA AUTOCRÍ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6 Rectángulo redondeado"/>
          <p:cNvSpPr/>
          <p:nvPr/>
        </p:nvSpPr>
        <p:spPr>
          <a:xfrm>
            <a:off x="5286240" y="3643200"/>
            <a:ext cx="2786040" cy="10000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2.COEVALUANDO EL TRABAJO REALIZADO POR EL  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7 Rectángulo redondeado"/>
          <p:cNvSpPr/>
          <p:nvPr/>
        </p:nvSpPr>
        <p:spPr>
          <a:xfrm>
            <a:off x="5214960" y="521496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3.OBTENIENDO  UNA  PERSPECTIVA HOLISTICA DEL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8 Sol"/>
          <p:cNvSpPr/>
          <p:nvPr/>
        </p:nvSpPr>
        <p:spPr>
          <a:xfrm>
            <a:off x="214200" y="2357280"/>
            <a:ext cx="4143600" cy="3357720"/>
          </a:xfrm>
          <a:prstGeom prst="sun">
            <a:avLst>
              <a:gd name="adj" fmla="val 25000"/>
            </a:avLst>
          </a:prstGeom>
          <a:solidFill>
            <a:srgbClr val="a8cdd7"/>
          </a:solidFill>
          <a:ln w="38160">
            <a:solidFill>
              <a:srgbClr val="7a9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F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ONOCER UN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11 Conector recto de flecha"/>
          <p:cNvCxnSpPr>
            <a:endCxn id="431" idx="1"/>
          </p:cNvCxnSpPr>
          <p:nvPr/>
        </p:nvCxnSpPr>
        <p:spPr>
          <a:xfrm flipV="1">
            <a:off x="3929040" y="2606400"/>
            <a:ext cx="1357920" cy="286560"/>
          </a:xfrm>
          <a:prstGeom prst="straightConnector1">
            <a:avLst/>
          </a:prstGeom>
          <a:ln w="76320">
            <a:solidFill>
              <a:srgbClr val="b0ccb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6" name="14 Conector recto de flecha"/>
          <p:cNvCxnSpPr>
            <a:stCxn id="434" idx="3"/>
          </p:cNvCxnSpPr>
          <p:nvPr/>
        </p:nvCxnSpPr>
        <p:spPr>
          <a:xfrm flipV="1">
            <a:off x="4357440" y="3999960"/>
            <a:ext cx="929160" cy="3708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7" name="17 Conector recto de flecha"/>
          <p:cNvCxnSpPr/>
          <p:nvPr/>
        </p:nvCxnSpPr>
        <p:spPr>
          <a:xfrm>
            <a:off x="3857400" y="5285880"/>
            <a:ext cx="1215000" cy="35820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74872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928800" y="13572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Conjunto de investigaciones proporcionan  el conocimiento para un diseño curricular determinado sobre  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2 ¿Para qué sirve en nuestra sociedad ?    (Referentes universales y referentes nacionales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Las tendencias actuales de la discipl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3.Otros diseños similares extranjeros y nacionales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41" name="Picture 2" descr="C:\Users\Luis\Documents\CURRICULO HONDURAS\imagen 4.jpg"/>
          <p:cNvPicPr/>
          <p:nvPr/>
        </p:nvPicPr>
        <p:blipFill>
          <a:blip r:embed="rId1"/>
          <a:stretch/>
        </p:blipFill>
        <p:spPr>
          <a:xfrm>
            <a:off x="500040" y="57168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Título" descr=""/>
          <p:cNvPicPr/>
          <p:nvPr/>
        </p:nvPicPr>
        <p:blipFill>
          <a:blip r:embed="rId1"/>
          <a:stretch/>
        </p:blipFill>
        <p:spPr>
          <a:xfrm>
            <a:off x="907920" y="208080"/>
            <a:ext cx="8143920" cy="1230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914400" y="1784520"/>
            <a:ext cx="77724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1.Historia de la Universidad y de la carrera 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2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Postulados de la Universidad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1 M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2 V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 Postulados de la carrera (congruentes con los de la Universidad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1 M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.3.2 V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4 Historia de la carrera (antecedentes de la misma, cuando se inició, modificaciones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5 Proyectos universitarios complementari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¿</a:t>
            </a:r>
            <a:r>
              <a:rPr b="1" lang="es-ES" sz="3600" spc="-1" strike="noStrike">
                <a:solidFill>
                  <a:srgbClr val="cbe1e7"/>
                </a:solidFill>
                <a:latin typeface="Rockwell"/>
              </a:rPr>
              <a:t>CON CÚAL PROCEDIMIENTO METODOLÓGICO HAGO EL DIAGNÓSTICO</a:t>
            </a:r>
            <a:r>
              <a:rPr b="1" lang="es-ES" sz="36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401320" cy="12495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Rockwell"/>
              </a:rPr>
              <a:t>PARA HACER EL DIAGNÓSTICO: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NT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L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O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HAGO UNA CONJUNCIÓN DE  LOS DOS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  CUANTITATIVO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Uso del método científico (ciencias exactas y naturale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1 Título" descr=""/>
          <p:cNvPicPr/>
          <p:nvPr/>
        </p:nvPicPr>
        <p:blipFill>
          <a:blip r:embed="rId1"/>
          <a:stretch/>
        </p:blipFill>
        <p:spPr>
          <a:xfrm>
            <a:off x="493560" y="365040"/>
            <a:ext cx="8448840" cy="1042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un hecho social manipulándolo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XPERIMENTAL</a:t>
            </a: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un hecho social mediante la asociación de varios hechos sociale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CORRELACIONAL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describiendo sus característica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DESCRIPTIVO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Elipse"/>
          <p:cNvSpPr/>
          <p:nvPr/>
        </p:nvSpPr>
        <p:spPr>
          <a:xfrm>
            <a:off x="1500120" y="2000160"/>
            <a:ext cx="214308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1.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2 Elipse"/>
          <p:cNvSpPr/>
          <p:nvPr/>
        </p:nvSpPr>
        <p:spPr>
          <a:xfrm>
            <a:off x="6215040" y="3643200"/>
            <a:ext cx="178596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Rockwell"/>
              </a:rPr>
              <a:t>3.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5 Marco"/>
          <p:cNvSpPr/>
          <p:nvPr/>
        </p:nvSpPr>
        <p:spPr>
          <a:xfrm>
            <a:off x="714240" y="428760"/>
            <a:ext cx="8072640" cy="592920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6 CuadroTexto"/>
          <p:cNvSpPr/>
          <p:nvPr/>
        </p:nvSpPr>
        <p:spPr>
          <a:xfrm>
            <a:off x="2357280" y="6429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13 Flecha arriba y abajo"/>
          <p:cNvSpPr/>
          <p:nvPr/>
        </p:nvSpPr>
        <p:spPr>
          <a:xfrm>
            <a:off x="2428920" y="1214280"/>
            <a:ext cx="357120" cy="714600"/>
          </a:xfrm>
          <a:prstGeom prst="upDownArrow">
            <a:avLst>
              <a:gd name="adj1" fmla="val 50000"/>
              <a:gd name="adj2" fmla="val 50025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14 Flecha arriba y abajo"/>
          <p:cNvSpPr/>
          <p:nvPr/>
        </p:nvSpPr>
        <p:spPr>
          <a:xfrm flipH="1">
            <a:off x="7215120" y="1214280"/>
            <a:ext cx="311040" cy="235764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15 Flecha arriba y abajo"/>
          <p:cNvSpPr/>
          <p:nvPr/>
        </p:nvSpPr>
        <p:spPr>
          <a:xfrm>
            <a:off x="2286000" y="3143160"/>
            <a:ext cx="500040" cy="2428920"/>
          </a:xfrm>
          <a:prstGeom prst="upDownArrow">
            <a:avLst>
              <a:gd name="adj1" fmla="val 50000"/>
              <a:gd name="adj2" fmla="val 50014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6 Flecha arriba y abajo"/>
          <p:cNvSpPr/>
          <p:nvPr/>
        </p:nvSpPr>
        <p:spPr>
          <a:xfrm>
            <a:off x="6929280" y="4786200"/>
            <a:ext cx="428760" cy="785880"/>
          </a:xfrm>
          <a:prstGeom prst="upDownArrow">
            <a:avLst>
              <a:gd name="adj1" fmla="val 50000"/>
              <a:gd name="adj2" fmla="val 49989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17 CuadroTexto"/>
          <p:cNvSpPr/>
          <p:nvPr/>
        </p:nvSpPr>
        <p:spPr>
          <a:xfrm>
            <a:off x="2428920" y="57862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10 Elipse"/>
          <p:cNvSpPr/>
          <p:nvPr/>
        </p:nvSpPr>
        <p:spPr>
          <a:xfrm>
            <a:off x="3714840" y="2857680"/>
            <a:ext cx="2428920" cy="121428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2.PROGRAM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1 CuadroTexto"/>
          <p:cNvSpPr/>
          <p:nvPr/>
        </p:nvSpPr>
        <p:spPr>
          <a:xfrm>
            <a:off x="8286840" y="1571760"/>
            <a:ext cx="35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785880" y="164304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17 Flecha arriba y abajo"/>
          <p:cNvSpPr/>
          <p:nvPr/>
        </p:nvSpPr>
        <p:spPr>
          <a:xfrm>
            <a:off x="4786200" y="1357200"/>
            <a:ext cx="500040" cy="1500480"/>
          </a:xfrm>
          <a:prstGeom prst="upDownArrow">
            <a:avLst>
              <a:gd name="adj1" fmla="val 50000"/>
              <a:gd name="adj2" fmla="val 50012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18 Flecha arriba y abajo"/>
          <p:cNvSpPr/>
          <p:nvPr/>
        </p:nvSpPr>
        <p:spPr>
          <a:xfrm>
            <a:off x="4643280" y="4214880"/>
            <a:ext cx="642960" cy="135720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20 Rayo"/>
          <p:cNvSpPr/>
          <p:nvPr/>
        </p:nvSpPr>
        <p:spPr>
          <a:xfrm>
            <a:off x="3143160" y="2571840"/>
            <a:ext cx="928800" cy="50004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21 Rayo"/>
          <p:cNvSpPr/>
          <p:nvPr/>
        </p:nvSpPr>
        <p:spPr>
          <a:xfrm>
            <a:off x="5429160" y="3571920"/>
            <a:ext cx="928800" cy="35712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517240" cy="1182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3 Elipse"/>
          <p:cNvSpPr/>
          <p:nvPr/>
        </p:nvSpPr>
        <p:spPr>
          <a:xfrm>
            <a:off x="285840" y="2000160"/>
            <a:ext cx="28573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DI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5 Elipse"/>
          <p:cNvSpPr/>
          <p:nvPr/>
        </p:nvSpPr>
        <p:spPr>
          <a:xfrm>
            <a:off x="214200" y="4214880"/>
            <a:ext cx="285768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DIREC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8 Rectángulo"/>
          <p:cNvSpPr/>
          <p:nvPr/>
        </p:nvSpPr>
        <p:spPr>
          <a:xfrm>
            <a:off x="4429080" y="4643280"/>
            <a:ext cx="257184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9 Rectángulo"/>
          <p:cNvSpPr/>
          <p:nvPr/>
        </p:nvSpPr>
        <p:spPr>
          <a:xfrm>
            <a:off x="4500720" y="5643720"/>
            <a:ext cx="2357280" cy="6429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CUE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4572000" y="3643200"/>
            <a:ext cx="242892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SISTEMA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1 Rectángulo"/>
          <p:cNvSpPr/>
          <p:nvPr/>
        </p:nvSpPr>
        <p:spPr>
          <a:xfrm>
            <a:off x="4500720" y="2071800"/>
            <a:ext cx="2357280" cy="8571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0" name="13 Conector recto de flecha"/>
          <p:cNvCxnSpPr>
            <a:stCxn id="454" idx="6"/>
          </p:cNvCxnSpPr>
          <p:nvPr/>
        </p:nvCxnSpPr>
        <p:spPr>
          <a:xfrm flipV="1">
            <a:off x="3142800" y="2571480"/>
            <a:ext cx="1358280" cy="249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15 Conector recto de flecha"/>
          <p:cNvCxnSpPr/>
          <p:nvPr/>
        </p:nvCxnSpPr>
        <p:spPr>
          <a:xfrm>
            <a:off x="3071520" y="3143160"/>
            <a:ext cx="1500840" cy="572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17 Conector recto de flecha"/>
          <p:cNvCxnSpPr/>
          <p:nvPr/>
        </p:nvCxnSpPr>
        <p:spPr>
          <a:xfrm flipV="1">
            <a:off x="2999880" y="4714200"/>
            <a:ext cx="135828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21 Conector recto de flecha"/>
          <p:cNvCxnSpPr>
            <a:stCxn id="455" idx="5"/>
          </p:cNvCxnSpPr>
          <p:nvPr/>
        </p:nvCxnSpPr>
        <p:spPr>
          <a:xfrm>
            <a:off x="2652840" y="5616360"/>
            <a:ext cx="1776960" cy="384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4" name="14 Rectángulo"/>
          <p:cNvSpPr/>
          <p:nvPr/>
        </p:nvSpPr>
        <p:spPr>
          <a:xfrm>
            <a:off x="7358040" y="2643120"/>
            <a:ext cx="1785960" cy="242892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Cuestion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pruebas objetiv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guía 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18 Conector recto"/>
          <p:cNvSpPr/>
          <p:nvPr/>
        </p:nvSpPr>
        <p:spPr>
          <a:xfrm>
            <a:off x="6929280" y="2286000"/>
            <a:ext cx="785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20 Conector recto"/>
          <p:cNvSpPr/>
          <p:nvPr/>
        </p:nvSpPr>
        <p:spPr>
          <a:xfrm>
            <a:off x="6929280" y="6000840"/>
            <a:ext cx="1214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23 Conector recto de flecha"/>
          <p:cNvCxnSpPr/>
          <p:nvPr/>
        </p:nvCxnSpPr>
        <p:spPr>
          <a:xfrm flipH="1">
            <a:off x="7714440" y="2286000"/>
            <a:ext cx="2520" cy="357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25 Conector recto de flecha"/>
          <p:cNvCxnSpPr/>
          <p:nvPr/>
        </p:nvCxnSpPr>
        <p:spPr>
          <a:xfrm flipV="1">
            <a:off x="8071200" y="5073120"/>
            <a:ext cx="2520" cy="929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27 Conector recto de flecha"/>
          <p:cNvCxnSpPr>
            <a:stCxn id="458" idx="3"/>
          </p:cNvCxnSpPr>
          <p:nvPr/>
        </p:nvCxnSpPr>
        <p:spPr>
          <a:xfrm>
            <a:off x="7000560" y="3928680"/>
            <a:ext cx="500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29 Conector recto de flecha"/>
          <p:cNvCxnSpPr/>
          <p:nvPr/>
        </p:nvCxnSpPr>
        <p:spPr>
          <a:xfrm>
            <a:off x="7000560" y="4857840"/>
            <a:ext cx="42948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CUAL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uso de otros métodos igual de científicos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etnográfico, fenomenológico, hermenéutico dialéctico, , investigación acción, entre otros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el modo de vida  de  un grupo humano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TNOGRÁFICO</a:t>
            </a: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las vivencia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FENOMENOLÓG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3. ¿Quiero interpretar los significados y las accione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HERMENÉUTICO DIALÉCT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4.Quiero transformar el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INVESTIGACIÓN ACCION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3 Elipse"/>
          <p:cNvSpPr/>
          <p:nvPr/>
        </p:nvSpPr>
        <p:spPr>
          <a:xfrm>
            <a:off x="2786040" y="1500120"/>
            <a:ext cx="3143160" cy="17859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PARTICIP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4 Elipse"/>
          <p:cNvSpPr/>
          <p:nvPr/>
        </p:nvSpPr>
        <p:spPr>
          <a:xfrm>
            <a:off x="5643720" y="2928960"/>
            <a:ext cx="3286080" cy="2214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TREVIS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O ESTRUCTUR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5 Elipse"/>
          <p:cNvSpPr/>
          <p:nvPr/>
        </p:nvSpPr>
        <p:spPr>
          <a:xfrm>
            <a:off x="214200" y="3429000"/>
            <a:ext cx="31435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6 Elipse"/>
          <p:cNvSpPr/>
          <p:nvPr/>
        </p:nvSpPr>
        <p:spPr>
          <a:xfrm>
            <a:off x="3214800" y="5072040"/>
            <a:ext cx="2857320" cy="15717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RUPO DE DISCUSIÓN O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7 Flecha cuádruple"/>
          <p:cNvSpPr/>
          <p:nvPr/>
        </p:nvSpPr>
        <p:spPr>
          <a:xfrm>
            <a:off x="2857680" y="2786040"/>
            <a:ext cx="3071520" cy="2643120"/>
          </a:xfrm>
          <a:prstGeom prst="pie">
            <a:avLst/>
          </a:prstGeom>
          <a:solidFill>
            <a:srgbClr val="a8cdd7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UÍ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ENFOQU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METODOLÓGI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SOCIA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                                       </a:t>
            </a: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MIXT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SO DE DOS MÉTODOS 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NO CUALITATIVO Y OTRO    CUANT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ffff"/>
                </a:solidFill>
                <a:latin typeface="Rockwell"/>
                <a:ea typeface="Arial"/>
              </a:rPr>
              <a:t>1.¿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Quiero conocer  “ las dos caras de la moneda”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 DISEÑO  INTEGRAL COMPLEMENTARIO (DICO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 UN HECHO SOCIAL  INTEGRANDO SUS CUALIDADES CUALITATIVAS Y CUANTITATIVAS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IANGULADO (DITRI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 transformando datos cualitativos en cuantitativos o viceversa 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ASFORMADO  (DITRA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57120" y="114300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MÉTODO A + MÉTODO B      RESULTADOS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COMPLEMENTARIO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CO)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+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COMBIN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Rockwell"/>
              </a:rPr>
              <a:t>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IANGULADO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I )                 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DE  TRIANGULACIÓN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ANSFORMADO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A)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TRANSFORM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3 Elipse"/>
          <p:cNvSpPr/>
          <p:nvPr/>
        </p:nvSpPr>
        <p:spPr>
          <a:xfrm>
            <a:off x="3643200" y="5000760"/>
            <a:ext cx="1000080" cy="92844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4 Elipse"/>
          <p:cNvSpPr/>
          <p:nvPr/>
        </p:nvSpPr>
        <p:spPr>
          <a:xfrm>
            <a:off x="7286760" y="3071880"/>
            <a:ext cx="1214280" cy="1143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5 Elipse"/>
          <p:cNvSpPr/>
          <p:nvPr/>
        </p:nvSpPr>
        <p:spPr>
          <a:xfrm>
            <a:off x="3714840" y="3143160"/>
            <a:ext cx="92844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6 Elipse"/>
          <p:cNvSpPr/>
          <p:nvPr/>
        </p:nvSpPr>
        <p:spPr>
          <a:xfrm>
            <a:off x="3714840" y="1643040"/>
            <a:ext cx="107136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10 Estrella de 5 puntas"/>
          <p:cNvSpPr/>
          <p:nvPr/>
        </p:nvSpPr>
        <p:spPr>
          <a:xfrm>
            <a:off x="5572080" y="1643040"/>
            <a:ext cx="100008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12 Elipse"/>
          <p:cNvSpPr/>
          <p:nvPr/>
        </p:nvSpPr>
        <p:spPr>
          <a:xfrm>
            <a:off x="6858000" y="1714680"/>
            <a:ext cx="928800" cy="85716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13 Estrella de 5 puntas"/>
          <p:cNvSpPr/>
          <p:nvPr/>
        </p:nvSpPr>
        <p:spPr>
          <a:xfrm>
            <a:off x="8001000" y="1643040"/>
            <a:ext cx="1143000" cy="78588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14 Estrella de 5 puntas"/>
          <p:cNvSpPr/>
          <p:nvPr/>
        </p:nvSpPr>
        <p:spPr>
          <a:xfrm>
            <a:off x="5572080" y="3071880"/>
            <a:ext cx="1000080" cy="928800"/>
          </a:xfrm>
          <a:prstGeom prst="pie">
            <a:avLst/>
          </a:prstGeom>
          <a:solidFill>
            <a:srgbClr val="a8cdd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15 Estrella de 5 puntas"/>
          <p:cNvSpPr/>
          <p:nvPr/>
        </p:nvSpPr>
        <p:spPr>
          <a:xfrm>
            <a:off x="7358040" y="3143160"/>
            <a:ext cx="1071720" cy="785880"/>
          </a:xfrm>
          <a:prstGeom prst="pie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16 Estrella de 5 puntas"/>
          <p:cNvSpPr/>
          <p:nvPr/>
        </p:nvSpPr>
        <p:spPr>
          <a:xfrm>
            <a:off x="5286240" y="4929120"/>
            <a:ext cx="135756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17 Estrella de 5 puntas"/>
          <p:cNvSpPr/>
          <p:nvPr/>
        </p:nvSpPr>
        <p:spPr>
          <a:xfrm>
            <a:off x="7358040" y="5000760"/>
            <a:ext cx="1285920" cy="10000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19 Conector recto"/>
          <p:cNvSpPr/>
          <p:nvPr/>
        </p:nvSpPr>
        <p:spPr>
          <a:xfrm>
            <a:off x="6643800" y="1571760"/>
            <a:ext cx="7128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21 Conector recto"/>
          <p:cNvSpPr/>
          <p:nvPr/>
        </p:nvSpPr>
        <p:spPr>
          <a:xfrm>
            <a:off x="3571920" y="2928960"/>
            <a:ext cx="5357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23 Conector recto"/>
          <p:cNvSpPr/>
          <p:nvPr/>
        </p:nvSpPr>
        <p:spPr>
          <a:xfrm>
            <a:off x="3571920" y="4857840"/>
            <a:ext cx="5072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18 Más"/>
          <p:cNvSpPr/>
          <p:nvPr/>
        </p:nvSpPr>
        <p:spPr>
          <a:xfrm>
            <a:off x="5000760" y="2000160"/>
            <a:ext cx="28548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19 Más"/>
          <p:cNvSpPr/>
          <p:nvPr/>
        </p:nvSpPr>
        <p:spPr>
          <a:xfrm>
            <a:off x="5072040" y="357192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20 Más"/>
          <p:cNvSpPr/>
          <p:nvPr/>
        </p:nvSpPr>
        <p:spPr>
          <a:xfrm>
            <a:off x="7858080" y="214308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21 Más"/>
          <p:cNvSpPr/>
          <p:nvPr/>
        </p:nvSpPr>
        <p:spPr>
          <a:xfrm>
            <a:off x="4929120" y="5357880"/>
            <a:ext cx="357120" cy="42840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14200" y="258840"/>
          <a:ext cx="8929800" cy="5257800"/>
        </p:xfrm>
        <a:graphic>
          <a:graphicData uri="http://schemas.openxmlformats.org/drawingml/2006/table">
            <a:tbl>
              <a:tblPr/>
              <a:tblGrid>
                <a:gridCol w="2000520"/>
                <a:gridCol w="2786040"/>
                <a:gridCol w="41432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cbe1e7"/>
                          </a:solidFill>
                          <a:latin typeface="Rockwell"/>
                        </a:rPr>
                        <a:t>ETAPAS DEL DISEÑO CURRICUL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be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cd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6e2e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AGNÓ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OGRA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0ec"/>
                    </a:solidFill>
                  </a:tcPr>
                </a:tc>
              </a:tr>
              <a:tr h="37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1 Perfil ocupacion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 Perfil  profes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3 Competencias generales de la 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4 Competencias especí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 Áreas curriculares.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1 Área específica: 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2Área complement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3Ejes transversales: investigación, ética, entre otr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6 Estructura del plan de estud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7 Malla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 Requisitos de ingreso y criterios de adm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2 Requisitos de grad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3 Título y grado que se otor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4 Duración y créditos del programa (resumen)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5 Características del director (a) de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6. Servicios de biblioteca,  laboratori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 Recursos de apoyo didáctico y de aprendizaje (Laboratorios, biblioteca, internet, equipo y otros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9 Tarifas de matrícula y costos de los cursos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0. Personal académ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ALUACIÓ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7200" spc="-1" strike="noStrike">
                <a:solidFill>
                  <a:srgbClr val="cbe1e7"/>
                </a:solidFill>
                <a:latin typeface="Rockwell"/>
              </a:rPr>
              <a:t>¿QUÉ ES UN DIAGNÓSTICO</a:t>
            </a: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Luis\Documents\CURRICULO HONDURAS\imagen 1.jpg"/>
          <p:cNvPicPr/>
          <p:nvPr/>
        </p:nvPicPr>
        <p:blipFill>
          <a:blip r:embed="rId2"/>
          <a:stretch/>
        </p:blipFill>
        <p:spPr>
          <a:xfrm>
            <a:off x="1554120" y="16462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1365120" y="480960"/>
            <a:ext cx="8083800" cy="963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3716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Proviene del griego diagnostikós formado por el prefijo día (a través), y gnosis (conocimiento o apto para conocer)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nálisis que se realiza para determinar  la situación  de una realidad social y cuáles son sus tendencias 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porta   datos  de un hecho social  recogidos y ordenados sistemáticamente para conocer( externa e internamente) determinado  hecho  social . 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be1e7"/>
                </a:solidFill>
                <a:latin typeface="Rockwell"/>
              </a:rPr>
              <a:t>¿ QUÉ ES UN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378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Rockwell"/>
              </a:rPr>
              <a:t>Proceso que  nos permite conocer determinada  realidad social de un diseño curricular   (en  sus ámbitos  externo e interno)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Rockwell"/>
              </a:rPr>
              <a:t>¿CUÁL ES EL PROPÓSITO DEL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13:39:12Z</dcterms:created>
  <dc:creator>Luis</dc:creator>
  <dc:description/>
  <dc:language>en-US</dc:language>
  <cp:lastModifiedBy>Luis</cp:lastModifiedBy>
  <dcterms:modified xsi:type="dcterms:W3CDTF">2018-03-18T16:26:18Z</dcterms:modified>
  <cp:revision>37</cp:revision>
  <dc:subject/>
  <dc:title>El diagnostico curricular</dc:title>
</cp:coreProperties>
</file>